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BC6E-C959-4436-B99D-19754DF8D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69B0-0C42-4EA0-B466-9A6F38185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E3C-8CC8-4861-A4A2-1A46AA68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24F-4704-49EC-AAA2-AFF84BC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B04-44AA-4F2D-9AAC-384C5B97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FCE-261C-45CF-A5A0-664E2F72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A108-F175-42E1-AFB9-623FF7DC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032C-8481-4BCE-8976-1CA8A87F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46F4-5BCC-4C24-9669-7895A00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DF0-4FAC-43B2-8EF3-A395969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590-6986-4FE8-B917-F637A05A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35440"/>
            <a:ext cx="830592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A5D1-895E-4DD0-858C-B909AD6B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5475-319A-4920-883E-4026027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192-EE06-4A89-B5D9-A4E453AB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AD9-AD3C-44DD-BC58-FC96732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1590-8FBA-46AA-8C60-9969855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4ED-FD2E-44D1-AF74-BE77878D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38D-A9DE-4785-83F3-49F337BC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9308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0" y="14475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212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9308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24400" y="415404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BCF9-AC65-430B-BA87-08285B3B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267-970A-4CEB-8181-2195F3F7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706-4BFA-4F54-9A65-229048A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E96-6B1A-4AE1-9D60-A186DAB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35440"/>
            <a:ext cx="830592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0D0-86A2-4F82-B849-1A2500AC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0FE-B135-4923-AF81-FA62309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415404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4EC-7EEF-458B-865C-9F9CC69A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4475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5404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F1F-AD04-495A-9B86-EB36089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1143000"/>
            <a:ext cx="6899400" cy="171360"/>
          </a:xfrm>
          <a:prstGeom prst="pie">
            <a:avLst/>
          </a:pr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716040" cy="6400800"/>
          </a:xfrm>
          <a:prstGeom prst="pie">
            <a:avLst/>
          </a:pr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04920" y="762120"/>
            <a:ext cx="152280" cy="91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3F3-1E74-4765-9AC9-742EDAFF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Freeform 3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prstGeom prst="pie">
              <a:avLst/>
            </a:pr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Freeform 6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prstGeom prst="pie">
                  <a:avLst/>
                </a:pr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7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prstGeom prst="pie">
                  <a:avLst/>
                </a:pr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" name="Freeform 8"/>
              <p:cNvSpPr/>
              <p:nvPr/>
            </p:nvSpPr>
            <p:spPr>
              <a:xfrm>
                <a:off x="3844080" y="3182400"/>
                <a:ext cx="466560" cy="23652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4618080" y="3124080"/>
                <a:ext cx="81360" cy="20088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594320" y="3156120"/>
                <a:ext cx="419760" cy="236160"/>
              </a:xfrm>
              <a:prstGeom prst="pie">
                <a:avLst/>
              </a:pr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35440"/>
            <a:ext cx="83059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2973-F25B-4874-A46A-37BF6DC4B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21724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Clean is our A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ng Air 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rbon Form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d through combustion or burning of materials that contai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car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ydrocarbon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atile organic compounds (VOC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containing carbon that forms when sunlight reacts with chemicals in the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of 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porating gas and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s, primers,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hemicals (toluene, benzene, phenols, chloro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97200"/>
            <a:ext cx="830592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rbon Dioxide and Carbon Mon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l combustion engines release carbon gas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combustion =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combustion = carbon mon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billion metric tons of carbon monoxide released every year by vehicles alon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dioxide is a major component of 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Oxi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evel can be detected by a “rotten egg –type” 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sulfur ox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lfur dioxide(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lfur trioxide(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d when fuels containing sulfur are bu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and 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can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 s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 from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 dioxide is the second major component of 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lfur Triox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major gas that causes acid r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e to combine with water vapor to form sulfuric acid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strong acid quickly reacts with materials when contract is ma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 rain can cause damage to plants and property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itrogen Oxid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d during combustion of fuels with nitrog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fo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monoxide (N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dioxid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nitrogen oxides are similar to those of of sulfur ox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ajor gas that causes 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health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respiratory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dise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 Ca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ys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ch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lung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e3njvkbo[1]"/>
          <p:cNvPicPr/>
          <p:nvPr/>
        </p:nvPicPr>
        <p:blipFill>
          <a:blip r:embed="rId9"/>
          <a:stretch/>
        </p:blipFill>
        <p:spPr>
          <a:xfrm>
            <a:off x="6019920" y="1600200"/>
            <a:ext cx="2746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air comes in through nostr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hairs and moist membranes that filter dust and some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s that get past the small hairs may be absorbed by the mucous membranes in lu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4nfouay[1]"/>
          <p:cNvPicPr/>
          <p:nvPr/>
        </p:nvPicPr>
        <p:blipFill>
          <a:blip r:embed="rId5"/>
          <a:stretch/>
        </p:blipFill>
        <p:spPr>
          <a:xfrm>
            <a:off x="7515360" y="1854360"/>
            <a:ext cx="16286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1270080" y="0"/>
            <a:ext cx="724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sible, tasteless, and odorless mixture of gases that surrounds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ide 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found insid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bient 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(atmosphere)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ir pollution affects lungs of other animals similar to huma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eed produced in areas near high air pollution may be poiso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cid rain can also destroy wild fish population in lakes and streams if in a strong enough concentr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830592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Effect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ir pollution may cause damage to fruits, vegetables, flowers, trees, lawn grasses, and other plan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ral pollutants can destroy leaf tissue in plan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 cannot manufacture the needed chloro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tecting Air from Pollu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ubbers can be used on factory s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uels that produce less sulfur, carbon, and nit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fuel is burned = fewer poll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ing and recyc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saf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components of 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trogen -7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ygen – 2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gon – 0.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dioxide - 0.0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e g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n, ammonia, helium, methane, krypton,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ir Qua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of quality air is critical to both plants and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h ambient and inside air quality is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Air Pollutio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ence of materials in the air that damage ai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other than the natural gases 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al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7200" y="358560"/>
            <a:ext cx="8596440" cy="6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ypes and Sources of Air Pollu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jor types of air pollu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 particles similar to dust and droplets of 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visible and noticeable type of 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air pollution is of this 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ities, 90% is due to human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oke from fact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trash and forest fi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st from roads and m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8305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icult to identi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ain in the atmosphere for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s of gas pollu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bon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trogen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25:24Z</dcterms:created>
  <dc:creator>dmouser</dc:creator>
  <dc:description/>
  <dc:language>en-US</dc:language>
  <cp:lastModifiedBy>Alicia Burge</cp:lastModifiedBy>
  <dcterms:modified xsi:type="dcterms:W3CDTF">2010-11-22T23:57:05Z</dcterms:modified>
  <cp:revision>14</cp:revision>
  <dc:subject/>
  <dc:title>Central Core CD  Unit A</dc:title>
</cp:coreProperties>
</file>